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41E70-0989-4625-8A33-4BBEE09651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2480" cy="347328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120320" y="4414680"/>
            <a:ext cx="4559400" cy="4183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ummary of the most obvious differe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8336-3AD3-4C31-BF07-6AF1E469A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80800" y="190080"/>
            <a:ext cx="6451560" cy="92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346040"/>
            <a:ext cx="7772400" cy="226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827160"/>
            <a:ext cx="7772400" cy="226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B39F-545F-4C2E-9C78-704661B37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80800" y="190080"/>
            <a:ext cx="6451560" cy="92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346040"/>
            <a:ext cx="3792600" cy="226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346040"/>
            <a:ext cx="3792600" cy="226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827160"/>
            <a:ext cx="3792600" cy="226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827160"/>
            <a:ext cx="3792600" cy="226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0148-1CE7-4442-B764-DB6762384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0800" y="190080"/>
            <a:ext cx="6451560" cy="92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346040"/>
            <a:ext cx="2502360" cy="226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346040"/>
            <a:ext cx="2502360" cy="226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346040"/>
            <a:ext cx="2502360" cy="226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827160"/>
            <a:ext cx="2502360" cy="226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827160"/>
            <a:ext cx="2502360" cy="226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827160"/>
            <a:ext cx="2502360" cy="226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C6E5-4059-406A-BE3B-7ADC10D25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BBC9D-45E0-47CD-B8F9-DF8C3550B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0800" y="190080"/>
            <a:ext cx="6451560" cy="92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346040"/>
            <a:ext cx="7772400" cy="47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11E22-66CA-4562-87A6-F36031273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80800" y="190080"/>
            <a:ext cx="6451560" cy="92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346040"/>
            <a:ext cx="7772400" cy="474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7FFD9-6D0D-4F29-8CA4-35BF0C11A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0800" y="190080"/>
            <a:ext cx="6451560" cy="92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346040"/>
            <a:ext cx="3792600" cy="474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346040"/>
            <a:ext cx="3792600" cy="474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429A3-8323-4252-BE53-EB29E8BBF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0800" y="190080"/>
            <a:ext cx="6451560" cy="92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3568E-9DBE-4B69-A20F-EE2F6D4F1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80800" y="190080"/>
            <a:ext cx="645156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C9D5C-964F-4B04-8813-1D08EF3A9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0800" y="190080"/>
            <a:ext cx="6451560" cy="92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346040"/>
            <a:ext cx="3792600" cy="226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346040"/>
            <a:ext cx="3792600" cy="474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827160"/>
            <a:ext cx="3792600" cy="226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C51CD-B4C3-47A0-B9C2-8671341F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80800" y="190080"/>
            <a:ext cx="6451560" cy="92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346040"/>
            <a:ext cx="7772400" cy="47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7C2C-BD97-4383-BB52-C57DF1023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0800" y="190080"/>
            <a:ext cx="6451560" cy="92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346040"/>
            <a:ext cx="3792600" cy="474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346040"/>
            <a:ext cx="3792600" cy="226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3827160"/>
            <a:ext cx="3792600" cy="226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32830-473B-4C8B-95A6-6A91C4FA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80800" y="190080"/>
            <a:ext cx="6451560" cy="92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346040"/>
            <a:ext cx="3792600" cy="226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346040"/>
            <a:ext cx="3792600" cy="226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827160"/>
            <a:ext cx="7772400" cy="226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8B3AD-C973-4913-BA9D-058312E0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80800" y="190080"/>
            <a:ext cx="6451560" cy="92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346040"/>
            <a:ext cx="7772400" cy="226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3827160"/>
            <a:ext cx="7772400" cy="226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7ABDF-9AD3-4DD4-B608-1583C1D3C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80800" y="190080"/>
            <a:ext cx="6451560" cy="92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346040"/>
            <a:ext cx="3792600" cy="226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346040"/>
            <a:ext cx="3792600" cy="226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3827160"/>
            <a:ext cx="3792600" cy="226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3827160"/>
            <a:ext cx="3792600" cy="226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45518-8BD8-4A57-B768-459F3AA30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80800" y="190080"/>
            <a:ext cx="6451560" cy="92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346040"/>
            <a:ext cx="2502360" cy="226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346040"/>
            <a:ext cx="2502360" cy="226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346040"/>
            <a:ext cx="2502360" cy="226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3827160"/>
            <a:ext cx="2502360" cy="226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3827160"/>
            <a:ext cx="2502360" cy="226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3827160"/>
            <a:ext cx="2502360" cy="226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44240-36F8-4AB3-A82E-9ABDDC0B8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80800" y="190080"/>
            <a:ext cx="6451560" cy="92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346040"/>
            <a:ext cx="7772400" cy="474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E8D6-3D75-4A8A-8556-5213DED7B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80800" y="190080"/>
            <a:ext cx="6451560" cy="92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346040"/>
            <a:ext cx="3792600" cy="474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346040"/>
            <a:ext cx="3792600" cy="474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566A-92A4-4197-8B78-1D3624D2A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80800" y="190080"/>
            <a:ext cx="6451560" cy="92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B851-C851-4B3D-AFE2-741451184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80800" y="190080"/>
            <a:ext cx="645156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D1A1-F071-4772-8308-E7D2141A4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80800" y="190080"/>
            <a:ext cx="6451560" cy="92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46040"/>
            <a:ext cx="3792600" cy="226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46040"/>
            <a:ext cx="3792600" cy="474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827160"/>
            <a:ext cx="3792600" cy="226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AA63-08A9-4422-80FF-DCEA09D52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80800" y="190080"/>
            <a:ext cx="6451560" cy="92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46040"/>
            <a:ext cx="3792600" cy="474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46040"/>
            <a:ext cx="3792600" cy="226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827160"/>
            <a:ext cx="3792600" cy="226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3AE3-EF15-4DEA-8CE9-C52B54D5F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80800" y="190080"/>
            <a:ext cx="6451560" cy="92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46040"/>
            <a:ext cx="3792600" cy="226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346040"/>
            <a:ext cx="3792600" cy="226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827160"/>
            <a:ext cx="7772400" cy="226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5411-382D-4FE7-83EF-B9645854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0800" y="190080"/>
            <a:ext cx="6451560" cy="92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46040"/>
            <a:ext cx="7772400" cy="474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7160" indent="-2271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26680" y="6219360"/>
            <a:ext cx="2019240" cy="6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87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65680" y="619776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C89DA-CBAE-4BD4-80DE-7CCDBB79E2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65240" y="330120"/>
            <a:ext cx="1739880" cy="6732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487440" y="1104840"/>
            <a:ext cx="8224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4379760" y="6583320"/>
            <a:ext cx="476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Sept 8,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7823160" y="162000"/>
            <a:ext cx="1008000" cy="8935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7588080" y="0"/>
            <a:ext cx="155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Advanced Technology Cen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avid Fitk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hone: 319.295.026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-mail:  dwfitkin@rockwellcollins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27F20-AD99-4396-B0C3-D42168F754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79760" y="6583320"/>
            <a:ext cx="476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November 17,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588080" y="0"/>
            <a:ext cx="1555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65240" y="330120"/>
            <a:ext cx="1739880" cy="6732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ghtweight Services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Revised Submission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se to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time-2002-06-31</a:t>
            </a:r>
            <a:br>
              <a:rPr sz="24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omg.org/cgi-bin/doc?realtime/2003-10-03</a:t>
            </a:r>
            <a:br>
              <a:rPr sz="2400"/>
            </a:br>
            <a:br>
              <a:rPr sz="2800"/>
            </a:b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: Mercury Computer Systems, Objective Interface Systems, and Rockwell Colli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80800" y="190080"/>
            <a:ext cx="6451560" cy="92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onal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346040"/>
            <a:ext cx="3809880" cy="474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7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838080" y="1295280"/>
          <a:ext cx="7543800" cy="2492640"/>
        </p:xfrm>
        <a:graphic>
          <a:graphicData uri="http://schemas.openxmlformats.org/drawingml/2006/table">
            <a:tbl>
              <a:tblPr/>
              <a:tblGrid>
                <a:gridCol w="3664080"/>
                <a:gridCol w="3879720"/>
              </a:tblGrid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quir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pon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itional Non CORBA PS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posals may provide PSM(s) for other technologies than CORBA by specializing the PIM(s) of section 6.5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 other PSMs besides CORBA PSMs are provided by this submiss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version Proc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submission may provide a process for converting a standard CORBA service to lightweight servic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 conversion process has been provide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ll services may be made lightweight by removal of interfaces leaving the “subset” of supported interfaces in lightweight servic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80800" y="190080"/>
            <a:ext cx="6451560" cy="92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ponses to RFP Issues to be discu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346040"/>
            <a:ext cx="3809880" cy="474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7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838080" y="1295280"/>
          <a:ext cx="7543800" cy="3656160"/>
        </p:xfrm>
        <a:graphic>
          <a:graphicData uri="http://schemas.openxmlformats.org/drawingml/2006/table">
            <a:tbl>
              <a:tblPr/>
              <a:tblGrid>
                <a:gridCol w="3664080"/>
                <a:gridCol w="3879720"/>
              </a:tblGrid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ussion I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pon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nimization Meth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ach lightweight service is formed by concentrating on the essential core functionality ot that servic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ght and Full-up Ver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ach service specification describes the difference between the lightweight and the full-featured vers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fferences Target Domai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rget domain for the deployment of the lightweight  services specified by this submission are embedded systems and similar resource-constraint environ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80800" y="190080"/>
            <a:ext cx="6451560" cy="92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lization Task Force (FTF)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7160" indent="-2271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Lightweight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 Submission Stand-alon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Submission new Chap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mmendation: Create Merged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W as a base would allow valid PIM for both LW and F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MG needs to determine how to better handle subset profiles of old specif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 old spec’s to incorporate PIM/PS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 full service inheritance from Lightweigh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80800" y="190080"/>
            <a:ext cx="6451560" cy="92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7160" indent="-2271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mission meets the requirements and Goals of the LW Services RF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ghtweight Services make small footprint, execution efficient implementations of services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s using the defined Lightweight service interfaces are interoperable with “full” ser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ghtweight Services as defined allow embedded system developers to meet their minimalistic require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submitters recommend this submission for appro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0800" y="190080"/>
            <a:ext cx="6451560" cy="92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346040"/>
            <a:ext cx="7772400" cy="474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7160" indent="-227160">
              <a:spcBef>
                <a:spcPts val="700"/>
              </a:spcBef>
              <a:buClr>
                <a:srgbClr val="000000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bedded demands on 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700"/>
              </a:spcBef>
              <a:buClr>
                <a:srgbClr val="000000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ghtweight Services RFP 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700"/>
              </a:spcBef>
              <a:buClr>
                <a:srgbClr val="000000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ghtweight Naming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700"/>
              </a:spcBef>
              <a:buClr>
                <a:srgbClr val="000000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ghtweight Event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700"/>
              </a:spcBef>
              <a:buClr>
                <a:srgbClr val="000000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ghtweight Time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700"/>
              </a:spcBef>
              <a:buClr>
                <a:srgbClr val="000000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datory and Optional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700"/>
              </a:spcBef>
              <a:buClr>
                <a:srgbClr val="000000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ussion I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700"/>
              </a:spcBef>
              <a:buClr>
                <a:srgbClr val="000000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TF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700"/>
              </a:spcBef>
              <a:buClr>
                <a:srgbClr val="000000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80800" y="190080"/>
            <a:ext cx="6451560" cy="92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bedded Demands on Soft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346040"/>
            <a:ext cx="7772400" cy="474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7160" indent="-227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 Size limi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ly low power de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ormance constra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rated CPU clock, Power Save mode, et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Memory Foot pr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bedded Systems often to not have File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 they may support Flash Memory to save st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have constrained start/restart time al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ic initialization of application specific Service Fe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ty Limited – Only do what is absolutely necess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80800" y="190080"/>
            <a:ext cx="6451560" cy="92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ghtweight Services RFP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346040"/>
            <a:ext cx="7772400" cy="474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7160" indent="-2271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ightweight service proposal shall specify Naming Service, Event Service, and Time Service recommend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ghtweight Services are upwards compatible with respective their “Full”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s a common service feature subset that embedded application developers can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ghtweight Time is upwards compatible with Enhanced View of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0800" y="190080"/>
            <a:ext cx="6451560" cy="92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ghtweight Naming Serv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346040"/>
            <a:ext cx="7772400" cy="474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24640" indent="-224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s the “simpler” interfaces and name association mechanisms from the Naming Service specifi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5720" indent="-222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ing Context, Bind, Rebind, Binding Remov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4640" indent="-224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L is subset of CosNa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5720" indent="-222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operable with the full Naming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4640" indent="-224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ed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5720" indent="-222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d, rebind, resolve, unbind, bind_new_context, destro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5720" indent="-222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ceptions are same as CosNaming for these interf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4640" indent="-224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ified Footprint Re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5720" indent="-222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IS inserted the proper ifdefs into their ORBexpress Names: Embedded Objects implementation (targeted for vxWorks, egcs 1.0.1 compiler). Our full (present) implementation produces a 132K .out file for the library. The lightweight implementation produces a 65K .out file, a 50% re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4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80800" y="190080"/>
            <a:ext cx="6451560" cy="92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ghtweight Event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346040"/>
            <a:ext cx="7772400" cy="474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7160" indent="-2271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ality limited to Push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L is a subset of CosEventCom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operable with full Event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ed Interf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shConsumer, PushSupplier, EventChannel, ConsumerAdmin, SupplierAdmin, ProxyPushConsu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ll interfaces were removed from two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ptions are same as full specification for supported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80800" y="190080"/>
            <a:ext cx="6451560" cy="92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ghtweight Time Servi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346040"/>
            <a:ext cx="7772400" cy="474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7160" indent="-2271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set of the Enhanced View of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s interfaces for finding a clock, reading time, a time source, controlling a clock, and periodic 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nchronization of clocks is not suppo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ed operations have same exceptions as Enhanced View of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ed Interf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ck, ControlledClock, ClockEntries, Clock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onal Interf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ckCatalog, Periodic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80800" y="190080"/>
            <a:ext cx="6451560" cy="92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datory Requirements 1/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346040"/>
            <a:ext cx="3809880" cy="474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7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838080" y="1295280"/>
          <a:ext cx="7620120" cy="4724280"/>
        </p:xfrm>
        <a:graphic>
          <a:graphicData uri="http://schemas.openxmlformats.org/drawingml/2006/table">
            <a:tbl>
              <a:tblPr/>
              <a:tblGrid>
                <a:gridCol w="3700440"/>
                <a:gridCol w="3919680"/>
              </a:tblGrid>
              <a:tr h="31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quir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pon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plication Environ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ach proposal shall be targeted to benefit low-footprint and performance-conservative CORBA application environments. That benefit must be clearly detaile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subsets defining the lightweight service variants contain only interfaces and operations, which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 concentrate on the essential core functionality of the service, 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) require only a small footprint and little system resources when implemente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quired Servi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y lightweight service proposal shall specify Naming Service, Event Service, and Time Service recommendatio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is submission specifies lightweight variants of the following CORBA services: CosNamingService, CosEventService and the Enhanced View of 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M Compliant CORBA PS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lightweight service description shall include PIM and CORBA PSM and text that describes the changes made to an existing service definition to create a lightweight ver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 three services specified by this submission contain individual PIMs, CORBA PSMs and descriptions regard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subset selec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ati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lightweight service shall be upwards compatible with the full-up version. As such, any application designed to use a lightweight version of a service shall work properly with the full-up version of that serv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lightweight services specified by this submission are direct subsets of their full-featured siblings and therefore fully upward compati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80800" y="190080"/>
            <a:ext cx="6451560" cy="92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datory Requirements 2/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346040"/>
            <a:ext cx="3809880" cy="474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7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838080" y="1295280"/>
          <a:ext cx="7543800" cy="4571640"/>
        </p:xfrm>
        <a:graphic>
          <a:graphicData uri="http://schemas.openxmlformats.org/drawingml/2006/table">
            <a:tbl>
              <a:tblPr/>
              <a:tblGrid>
                <a:gridCol w="3663720"/>
                <a:gridCol w="3880080"/>
              </a:tblGrid>
              <a:tr h="41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quir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pon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opera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lightweight service shall be interoperable with the full-up version, when only functions supported by both versions are used by an applica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lightweight services specified by this submission are direct subsets of their full-featured siblings and therefore fully interoperable with the full-featured servic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enc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y dependencies on other existing, or proposed lightweight service shall be detailed in the proposa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services specified in this submission have no dependencies on other (lightweight) servic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MG Minimum CORB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posals shall comply with, and update if necessary, the OMG Minimum CORBA specification for all the features in each lightweight service that the submission propos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specifications contained in this submission do not require changes to CORBA or MinimumCORB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nction Selection Rati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submission shall provide rationale for the selection of the functions that are supported in each servic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selection of the subsets are explained in the respective lightweight service descriptio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1T14:41:13Z</dcterms:created>
  <dc:creator>a</dc:creator>
  <dc:description/>
  <dc:language>en-US</dc:language>
  <cp:lastModifiedBy>jesmith</cp:lastModifiedBy>
  <dcterms:modified xsi:type="dcterms:W3CDTF">2003-11-17T13:50:39Z</dcterms:modified>
  <cp:revision>19</cp:revision>
  <dc:subject/>
  <dc:title>Lightweight Services Submission</dc:title>
</cp:coreProperties>
</file>